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939-31A1-4FA2-9F6B-75519FA4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9360-4593-427A-84EB-BDF599CC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F30C5-21EA-447E-A2AB-81B3D24B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F0A63-71AA-4890-8407-AFE595CF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F8DA1-35CA-4D61-890B-C168B64E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DBA9D-97B6-41A2-907A-A202360C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92D9F-FCED-4832-B66A-B651B503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EC434-F3D4-4629-A679-7B721B2D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C43CF-43B5-4DE8-BF09-83EB2281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9F3EC-18F2-4946-8E1F-048F7107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E7020-5243-4D58-81BF-FBA03D4D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4553E-FEDB-4F3A-AB99-063C45EB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3D5-A89F-4621-B904-9EBCC8A1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38CC3-7EE7-4558-BA3C-54406291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F2FE2-31B1-4AE6-81FD-27CE5009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B82AF-ED4A-43CC-9860-85E0DCFF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AA1C9-928F-43E4-A3D1-E773281A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91C47-A3D6-4208-979F-00BBD7E7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76EAE-6E25-4E23-AA6A-FA8FFA1B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C77B3-D7D1-4EEE-A6D6-195562AB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7533B-BCD0-492B-9B9D-643CAB89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1104F-7310-4AF1-A02B-9D7BA65D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2DE38-7EC1-456A-A1F7-79217EB3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B22-7EAD-4DA3-AB2E-35EA4F60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CDED8-E5C6-4E19-804D-462F7791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9EC4F-1BD4-4215-82E3-8800DD58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C5D23-E52A-4CAD-90C8-1053CB28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B44B7-C747-48DF-AF10-CDEDE280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F35E3-A303-48E3-B7ED-78A56EF1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70E36-8302-467C-8F17-05058482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28677-A6CB-4C05-8DB5-539037C5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C211A-DC19-4149-9678-9574E01C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50112-3FAD-4338-AC12-67EE8B32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FF526-D2F3-42A8-B4AD-8E775EDC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2DE0-84A5-4ED9-9E77-2EE5586F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EF5DD-244A-4586-A5CD-94A88A56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82660-4B5A-4AE4-9947-814FACF7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902EC-F372-43E4-A2C8-A7B370F0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0CFA7-22BC-499B-9AC0-FFFC0C5F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0CBC3-483D-421E-A99E-47CF5270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BE689-CFD0-49BB-8A28-E830C3D3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A2DC5-B46F-4E23-8CB8-ABA2E588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C4504-EF34-4700-84D9-E30C6416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3FC99-EF95-4098-8EA7-B7E53CB4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C734E-F59C-4366-8EA1-C3C9F3CC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F082-7FA8-4E42-923F-3DFABAEE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68D1E-D59B-4482-A35B-CA0607E4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4C4D3-4D74-40C8-BC3A-7843D780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943A9-54D8-4FDD-B423-4FB1A2CB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9FB92-3FC9-4A78-822C-F623D1F7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9DDFB-0862-40D5-ACA1-4524679C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5799-6E4A-4231-AE04-ACB044AA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A18E-6528-4AA5-BA29-9B821C10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D7A7-CF79-421F-BEEC-3C42F517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2A1D-A6C7-4A7F-882D-0BA122C7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5155-5E25-442F-B758-D19F33D5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EDD-9988-42B1-BB37-CA45CAC1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3898-F88D-46D2-9817-A1DA9782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2E69-0D94-4560-AF11-2FF5A213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4887-C0BD-4154-BAD3-E8D6052A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99A4-D577-49B7-A83A-020FB919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E02C-AFED-4243-B78B-3A7AF0CD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4CD63-3DF5-468D-89C7-A35EAAA8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A5F2F-EB29-411E-88AF-720B4751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B7844-238B-495B-86B4-48BCB37F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F3B3B-EBF8-4425-9A6B-B682DC96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B067C-8113-4EC3-81D7-BE35611A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464-3B86-41F9-9E4C-4ABFFB78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3D6B8-F102-4328-9DDF-3801E156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E3CDB-8A0C-44C8-A282-3B88CE68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A3720-4F28-4EBC-BA4A-7107E67C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511BF-9EFA-4ED5-9B50-32EFCABB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B2D8A-93D5-4226-9EE9-9B215DFD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67FAC-DEE3-4F83-A4BD-1E2CC529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366F-E163-4FC1-9017-9D7F6FC3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E9138-3B6D-481F-AD97-0B9495FE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C909C-7483-44A4-AD42-2EF6A15B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ADF2C-4E50-4312-9D87-D9BBAE64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716-74B0-4B4B-94F7-A8E7D79E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BEFEE-7265-49AE-9876-F88826D4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2DCC3-A3AB-4ED4-96AB-D51DE11D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E196F-01DA-4335-8BF4-736E5363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469F7-7110-4178-8961-7B875B88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A174B-C91A-49DA-BD83-863CBEA9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4821C-2FC3-458E-B957-D4B8E2B0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F4CA4-854F-413F-9BEB-B1006612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833ED-B6BD-44B9-8E45-BE3CB816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85C52-C442-4B91-B6A6-25A7FBC1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737AA-4C8B-4593-A3E6-E221D812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B9E-1A21-4EE4-BCA7-897878A8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81EE2-273D-4CD0-ABC5-DFEB49E1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6F443-E5A1-4955-B5B2-D7172CDD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7549B-0370-4F3A-B5C7-263A442D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75B38-0E0E-4D50-BCAE-FC0F5194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AFEDE-C36E-4421-BDD0-E7D1BFB6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92E2B-02A8-4415-BCAD-31C44002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A27AF-A3B1-4CD8-A693-47B75405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A6FE9-A9FC-4F9C-857D-B6DF94E7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12DFB-F721-40A5-828E-F6A6B003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AF5EA-D810-4357-AABA-61368BB5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0AC-3A18-49B1-A4AA-A6CEBA04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08B64-B8DB-42D0-A4CF-80C2F307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69389-7195-481D-ADDE-F0DDEC4A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CEEF7-53C7-4471-89EF-0263A9AB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DA661-2ABD-4BC7-95D2-1F651336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15C1F-1AC0-42B4-88DB-1F0C4BC9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D5545-2CC1-4F53-8E2A-010F619B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CF4E6-5101-4E73-BB94-04D47F68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B6CEC-E25F-44ED-AE17-A377FE8B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36797-9263-45B4-9E76-BBA7BD95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A2BB7-15C6-47BD-8BF6-C019F2CF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1CF-095A-478D-9875-89D5F83B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8C01F-CEEC-46EE-8FC9-66710A04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D4531-65F8-41F4-955F-E76A26F7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75E00-DE31-42F8-A8B7-A1E82830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37188-54AC-4600-AAD3-21FBEDF0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05D10-517C-4E7A-A996-CBDE8899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1D19F-9769-459E-A177-387E01D1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F9F8F-E6E4-43D8-90F3-4234996D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8F3BE-602F-4301-B791-22BEABF7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23E6B-BD49-4042-8BFD-7E9D243C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8186D-A829-40E4-9297-F0CB3A0C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D80-611F-4297-9A97-FCFC6390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72DBA-71F2-47C7-97DF-5109C00A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EF7C2-99DD-4650-9B6A-B4D6E48D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031A9-BD93-471C-BF01-37A5160E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60751-0769-4502-9807-C6070660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26E14-4A29-4933-BD72-448E10C5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4B31A-E076-4F4B-A15E-BAB19DC6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84239-5AA2-4A67-8DAA-83E5B6D8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94CF4-500E-4D6E-9C44-3C3480CF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454D5-0231-41EC-8291-6BAD420A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61903-6BE5-4180-86D5-C1556C5A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66D-0468-4976-9FA4-11B35588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04DC1-0B79-46A6-B992-FEC205C4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CDF66-388B-4F92-9223-7C547AF0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1B638-73C2-4C67-9F24-47AE4AFD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BC934-65FF-49DF-B62E-F740F3CC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E8C8C-0AF2-4CF4-8C7F-7A983B9E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4B525-B5D1-4942-A90C-395C1A1E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2EE1E-8008-42AD-B1F6-0A9AFDE7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2EC02-A4FF-4536-8784-9AF6BB92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B57C4-D626-45C9-BFB3-6E980608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0E24B-E3BA-473F-9B22-B516C520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76B9-D5F0-4016-BCDF-DC9510173A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49E4-B8B3-4186-82D1-ADF34AEF3AA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86F8-FE60-4596-9F25-1B32077533F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6BAB-3E24-48A7-B192-833CF8A9A17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3587-D2A0-44D9-80F7-68B1621EC3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145E-A981-4927-A609-ED0ED6D4E83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4E9D-BC96-46A0-99C6-67726B4E9A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C4B5-EAA9-4425-9D77-76B00405534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907F-3A7E-4EAF-BDA4-E2D19A2F627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CAAA-5D2C-4EB8-A591-37A7A4AC79A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4A49-6CFD-4C09-B920-3A931E21D4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81FF-9A89-4525-ACAF-5C1F962BEA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53 Byť blízko teba, 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 blízko teba, 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ú vrúcnu túžbu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s hriechom zvádzam márny b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zápasím len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lákal by ma sveta kl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vojich osídi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síl mi čeliť nástrah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ieť večnej spás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Duch tvoj, Darca pokoj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býva, vládne v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človek vzdá sa odboj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a tvoj dbá len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dávaš, Pane, víťazstv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er duši strápen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 k nám už tvoje kráľovstv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bav svet moci zlej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1T16:46:07Z</dcterms:modified>
  <cp:revision>21</cp:revision>
  <dc:subject/>
  <dc:title>Je veľký náš Pán, on slávy je Kráľ Nech do všetkých strán  spev vrúcnych znie chvál.</dc:title>
</cp:coreProperties>
</file>